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9.jpeg" ContentType="image/jpeg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E082B-BE93-4804-987C-DF86C6533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 for BET there is an indication from modelling the fine-scale distribution that population levels of small BET are in fact higher in the central and eastern Pa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lights the importance of LL fishery for B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ches of small BET dominated by ID/PH and PS FAD/log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al lack of significant BET catches by PS unassociated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re detailed picture of fishery impacts – reduction in recent biomass attributable to each fish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a more detailed picture for longline by region – showing the concentration of high impact in the tropical regions 3 and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other way of showing the relative importance of BET LL catches in the trop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minder about where we are in relation to Fmsy for BET and the sorts of reductions in fishing mortality required to get us back to an area of comf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stress the SKJ and ALB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lide is from some of our tagging work in 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that there is not great potential to exploit different depth behaviour of the 3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n rectangle shows the characteristic time window for PS FAD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highlights the fact that FAD/log sets tend to catch smaller fish than unassociated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big increase in BET CPUE east of 170W, but most catch comes from the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wise for Y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J is diffe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E declines in most quarters east of 170W and becomes more var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seasonal movement east in Q2 and Q3, back in Q4 and 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line shows coefficient of variation of CPUE as you mov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 catches of SKJ are more certain in the west which explains why the fishery tends to be where it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son for higher BET and YFT CPUE in the east could be related to a much shallower thermocline, which might tend to keep juveniles in the surface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1A4C-F609-4F08-98B2-A93A485EE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8720-1684-47DB-B806-CF36B477E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E14B-A215-45D0-A640-8E9040266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8AEB-439C-4766-A5E2-72CC30C1D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0718-C121-4B43-887A-853878FE6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6560-9C38-4800-B219-B85C3F2FC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B82F-1EED-4061-A418-5AFC0C2BF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0503-86DB-4D8B-9AA3-53668499F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CA31-42CA-4071-8902-3A28C9C9E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39C9-229A-4B16-B7A6-DDA3D3F0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E315-665F-4C18-A134-3C3C0E3A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230B-3513-4776-AC28-4B1F787E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C0EB5-3F3E-4A4F-AE5C-915112F7A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geye and Yellowfin Stock Characteristics, Fishery Impacts and Possible Management Approach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Hamp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eanic Fisheries Pro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ariat of the Pacific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led Juvenile Bigeye Distrib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46784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venile bigeye and yellowfin CPUE in purse seine FAD sets increases sharply east of about 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, because of higher vulnerability associated with shallower thermocline, fleet specific efficiencies, or higher abun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purse seine fishing effort and bigeye and yellowfin catch also declines rapidly east of 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e FAD-based effort to increase in this region, there would be a large risk of increased catches and fishing mortality of juvenile bigeye and yellow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main area of the fishery west of 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, there appear to be no consistent seasonal or spatial concentrations of either species that could be targeted for clo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 of Impact – Bige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609480" y="1981080"/>
            <a:ext cx="8263080" cy="4005360"/>
            <a:chOff x="609480" y="1981080"/>
            <a:chExt cx="8263080" cy="400536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609480" y="2009880"/>
              <a:ext cx="8263080" cy="39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5638680" y="2133720"/>
              <a:ext cx="0" cy="312408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495680" y="19810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Juven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715000" y="1981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Adul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4038480" y="2166840"/>
              <a:ext cx="457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477120" y="2173320"/>
              <a:ext cx="5331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 – Bigey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239240" cy="49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/Region – Bigey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33520" y="1941480"/>
            <a:ext cx="8076960" cy="43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5994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508800" y="3657600"/>
            <a:ext cx="1263600" cy="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780320" y="3657240"/>
            <a:ext cx="0" cy="243828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ield Tradeoffs – Bigeye Tu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519280" y="1270080"/>
            <a:ext cx="6516720" cy="5586480"/>
            <a:chOff x="2519280" y="1270080"/>
            <a:chExt cx="6516720" cy="55864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rcRect l="0" t="3236" r="0" b="5209"/>
            <a:stretch/>
          </p:blipFill>
          <p:spPr>
            <a:xfrm>
              <a:off x="2519280" y="1270080"/>
              <a:ext cx="6516720" cy="558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 flipH="1">
              <a:off x="4174920" y="1656000"/>
              <a:ext cx="4249800" cy="14436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16360" y="4724640"/>
              <a:ext cx="136836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MS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&lt;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767640" y="1843200"/>
              <a:ext cx="136836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MS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&gt;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6624720" y="1771920"/>
              <a:ext cx="1944720" cy="295092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250920" y="1413000"/>
            <a:ext cx="2050920" cy="46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atu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 for Indonesia &amp; 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reductions in effort required to achieve Fmsy for B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50%, PS 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40%, PS 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30%, PS 3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20%, PS 4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10%, PS &gt;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0%, PS &gt;&gt;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 of Impact – Yellow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533520" y="1657440"/>
            <a:ext cx="8291520" cy="4011480"/>
            <a:chOff x="533520" y="1657440"/>
            <a:chExt cx="8291520" cy="401148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533520" y="1657440"/>
              <a:ext cx="8291520" cy="401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4876920" y="2057400"/>
              <a:ext cx="0" cy="2819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733920" y="190512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Juven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52880" y="19051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Adul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3276720" y="2090880"/>
              <a:ext cx="457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715000" y="2097000"/>
              <a:ext cx="5335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 - Yellowf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08660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/Region - Yellowf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" y="1830240"/>
            <a:ext cx="800100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type patterns (purse se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tial and temporal patterns (purse se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ed fishery impacts (all fisher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ment approaches – what (might) work and what wo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Fishery Impact Observ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fishery impacts on adult biomass are high, with adult biomass &lt;20% of unexploite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line fishery currently responsible for ~50% of total fishery impact on adult bio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impacts are from catches of small juveniles – PS FAD/log sets and ID/PH fish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clear that management measures need to targe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o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ongline and small juvenile 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s are high only in the tropical region and this is where management should logically be targ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Fishery Impact Observ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llow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fishery impacts on adult biomass are moderate, with adult biomass ~30% of unexploite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s are more evenly spread across fisheries – most significant are ID, PH miscellaneous small-fish fisheries, PH handline, PS FAD/log, PS unassociated and long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 bigeye, impacts are high only in the tropical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measures that are effective in reducing fishing mortality for bigeye will also reduce the currently significant risk that overfishing is occurring for yellow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tential Management Measures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at might work from a scientific point of vie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 is to reduce fishing mortality of bigeye and yellowf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the proportion of the stock harvested, fishery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mportant policy objective is also to minimize impacts on PS skipjack and LL albacore (South Pacific) ca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Longl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control of effort or c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ch control (TA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advantage is that TAC would need to respond to changes in population size resulting from recruitment, e.g. the TAC under current (high levels of recruitment) might be ~80,000 mt, but ~45,000 mt under long-term average recru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ing im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Longl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ort control (TA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 is that the same TAE can be applied across variable recruitment reg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guard against “effort creep” by periodic revision of the T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priate to restrict spatially to the tropical area, e.g. 2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- 1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longline impacts occur in this z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uld avoid unnecessary restrictions on fisheries targeting albacore (South Pacific) and swordf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would need to monitor non-tropical fisheries for any increase in bigeye targe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ous allocation options for TAEs or T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Longl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possibil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osed area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nlikely to work unless very large as effort could shift to open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osed season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uld possibly work but would need to be long enough so that vessels could not simply coincide regular travelling or down time, i.e. it would need to result in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crease in fishing effort (hooks or set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uld still need total effort restrictions in either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ch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 have overall or vessel-specific quotas or allowable % of catch for bigeye and small yellowfin (essentially treat as a by-cat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need to be set low enough to avoid over-fishing during low-recruitment peri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require real-time monitoring, probably by observer-based sam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% observer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quota reached, stop fishing (FAD/log sets) for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s onus on industry to work out how to avoid bigeye and small yellow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 control (indiscriminant wrt set typ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sentially what we have now with CMM-2005-01 (national waters) and CMM-2006-01 (high se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achieve bigeye/yellowfin conservation objectives without severely impacting skipjack ca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guarantee level of impact on bigeye without any reference to set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ort control targeting FAD/log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allow reduction of small bigeye and yellowfin mortality with less impact on skipjack c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objective might be to move from current situation of 40-60% FAD/log sets to 20-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ous ways it might be implem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ure period for FAD/log sets (as long as frequency of FAD/log sets in open period does not increase, total effort restrictions still app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entive schemes within a comprehensive VDS – free or heavily discounted days for non-FAD/log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options require 100% observer co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dvantage: reduced efficiency (fuel), higher costs. Risk is that some operators would not fish at all, with resulting impact on skipjack c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possibilit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depth restr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time of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all FAD/log sets are made in pre-dawn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mesh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effective in allowing escape of small bigeye and yellowfin, skipjack of similar size would also likely es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on phase – lower bigeye catches on full mo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ssociated sets – on free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tly dominated by SKJ or YFT of restricted size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quantities of small BET are relatively uncomm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ifting/anchored FAD and natural log 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comprise a mix of species and sizes, with small sizes domin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57200" y="1371600"/>
            <a:ext cx="8000640" cy="5105160"/>
            <a:chOff x="457200" y="1371600"/>
            <a:chExt cx="8000640" cy="5105160"/>
          </a:xfrm>
        </p:grpSpPr>
        <p:pic>
          <p:nvPicPr>
            <p:cNvPr id="133" name="" descr=""/>
            <p:cNvPicPr/>
            <p:nvPr/>
          </p:nvPicPr>
          <p:blipFill>
            <a:blip r:embed="rId1"/>
            <a:stretch/>
          </p:blipFill>
          <p:spPr>
            <a:xfrm>
              <a:off x="457200" y="1371600"/>
              <a:ext cx="8000640" cy="51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2140560" y="2230200"/>
              <a:ext cx="495360" cy="3383640"/>
            </a:xfrm>
            <a:prstGeom prst="rect">
              <a:avLst/>
            </a:prstGeom>
            <a:noFill/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possibilit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depth restr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time of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all FAD/log sets are made in pre-dawn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mesh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effective in allowing escape of small bigeye and yellowfin, skipjack of similar size would also likely es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on phase – lower bigeye catches on full mo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we left wit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line effort restrictions in the tr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se seine effort control in the tr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otal purse seine eff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additional measures to (a) encourage or (b) require some transfer of FAD/log effort to unassociated set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e of processors in providing incen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of operators to choose sets based on school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y consideration of measures to prevent any expansion of FAD-based effort east of ~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ssel-specific catch quotas for small bigeye and yellow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meaningful restrictions on small bigeye and yellowfin catches in Indonesia/Philipp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91540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613320" y="4600440"/>
            <a:ext cx="5302080" cy="225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657600" y="228600"/>
            <a:ext cx="5311800" cy="2268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676680" y="2362320"/>
            <a:ext cx="5319720" cy="22683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h Size by Se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1920" y="1447920"/>
            <a:ext cx="312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fish from unassociated sets for each 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se Seine Spatial &amp; Seasonal Patter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eye (FAD se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0" t="8360" r="0" b="8017"/>
          <a:stretch/>
        </p:blipFill>
        <p:spPr>
          <a:xfrm>
            <a:off x="1600200" y="1219320"/>
            <a:ext cx="6248520" cy="2286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676520" y="3514680"/>
            <a:ext cx="579096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se Seine Spatial &amp; Seasonal Patter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llowfin (FAD se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76520" y="3514680"/>
            <a:ext cx="5790960" cy="33433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rcRect l="0" t="8360" r="0" b="8017"/>
          <a:stretch/>
        </p:blipFill>
        <p:spPr>
          <a:xfrm>
            <a:off x="1600200" y="1219320"/>
            <a:ext cx="6248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se Seine Spatial &amp; Seasonal Patter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pjack (All se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619280" y="3521160"/>
            <a:ext cx="5772240" cy="3381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rcRect l="0" t="8360" r="0" b="8017"/>
          <a:stretch/>
        </p:blipFill>
        <p:spPr>
          <a:xfrm>
            <a:off x="1600200" y="1219320"/>
            <a:ext cx="6248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mocline Dep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9278" t="31255" r="0" b="0"/>
          <a:stretch/>
        </p:blipFill>
        <p:spPr>
          <a:xfrm>
            <a:off x="378000" y="1673280"/>
            <a:ext cx="8494560" cy="420372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2:49:33Z</dcterms:created>
  <dc:creator>johnh</dc:creator>
  <dc:description/>
  <dc:language>en-US</dc:language>
  <cp:lastModifiedBy>johnh</cp:lastModifiedBy>
  <dcterms:modified xsi:type="dcterms:W3CDTF">2008-03-30T04:27:07Z</dcterms:modified>
  <cp:revision>27</cp:revision>
  <dc:subject/>
  <dc:title>Overview of Tuna Stock Status in the WCPFC Area</dc:title>
</cp:coreProperties>
</file>